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C3D8-8D89-4BE2-9B4F-6C697964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EA7-1242-427A-9810-65AA49FC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CD51-92C2-441E-BFC4-21BBF44F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BF19-6AF0-4782-A600-25BF5722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DAF-41E7-464D-BE01-5CAD684F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98B7-5A5B-4C64-9B1F-F35B3F96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E122-0840-4F32-B1F9-EC253F14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800-6BBF-4251-BE9C-B23B5F78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6D1-BF50-428C-B63A-1FF5DF27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0E1D-7352-4A64-98FB-7A3CA941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9363-650F-4B58-902F-7999D332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E7E-CD3D-48E4-BC08-55C96F5C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A58C-C218-4DD6-8898-1AF28D969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7426" t="16667" r="26518" b="28434"/>
          <a:stretch/>
        </p:blipFill>
        <p:spPr>
          <a:xfrm>
            <a:off x="0" y="-465120"/>
            <a:ext cx="9677520" cy="732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0" y="3657600"/>
            <a:ext cx="3657600" cy="3200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el as Many Countries As You Can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a, Pakistan, Nepal, Bangladesh, Afghanistan,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2286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as Many Features as You Can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anges river, the Indus river, the Himalayan mount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tta, Delhi. Karachi, Pakistan’s Northwest Terr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590920" y="685800"/>
            <a:ext cx="6400800" cy="6172200"/>
            <a:chOff x="2590920" y="685800"/>
            <a:chExt cx="6400800" cy="61722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rcRect l="635" t="15245" r="45862" b="12110"/>
            <a:stretch/>
          </p:blipFill>
          <p:spPr>
            <a:xfrm>
              <a:off x="2590920" y="685800"/>
              <a:ext cx="64008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895480" y="3657600"/>
              <a:ext cx="447840" cy="235080"/>
            </a:xfrm>
            <a:custGeom>
              <a:avLst/>
              <a:gdLst/>
              <a:ahLst/>
              <a:rect l="l" t="t" r="r" b="b"/>
              <a:pathLst>
                <a:path w="282" h="148">
                  <a:moveTo>
                    <a:pt x="72" y="0"/>
                  </a:moveTo>
                  <a:cubicBezTo>
                    <a:pt x="60" y="22"/>
                    <a:pt x="41" y="30"/>
                    <a:pt x="24" y="48"/>
                  </a:cubicBezTo>
                  <a:cubicBezTo>
                    <a:pt x="13" y="58"/>
                    <a:pt x="4" y="81"/>
                    <a:pt x="0" y="96"/>
                  </a:cubicBezTo>
                  <a:cubicBezTo>
                    <a:pt x="24" y="132"/>
                    <a:pt x="71" y="144"/>
                    <a:pt x="112" y="148"/>
                  </a:cubicBezTo>
                  <a:cubicBezTo>
                    <a:pt x="184" y="144"/>
                    <a:pt x="186" y="138"/>
                    <a:pt x="244" y="132"/>
                  </a:cubicBezTo>
                  <a:cubicBezTo>
                    <a:pt x="246" y="126"/>
                    <a:pt x="247" y="120"/>
                    <a:pt x="252" y="116"/>
                  </a:cubicBezTo>
                  <a:cubicBezTo>
                    <a:pt x="254" y="113"/>
                    <a:pt x="261" y="115"/>
                    <a:pt x="264" y="112"/>
                  </a:cubicBezTo>
                  <a:cubicBezTo>
                    <a:pt x="270" y="101"/>
                    <a:pt x="271" y="76"/>
                    <a:pt x="276" y="64"/>
                  </a:cubicBezTo>
                  <a:cubicBezTo>
                    <a:pt x="248" y="45"/>
                    <a:pt x="282" y="65"/>
                    <a:pt x="228" y="52"/>
                  </a:cubicBezTo>
                  <a:cubicBezTo>
                    <a:pt x="206" y="46"/>
                    <a:pt x="191" y="26"/>
                    <a:pt x="168" y="24"/>
                  </a:cubicBezTo>
                  <a:cubicBezTo>
                    <a:pt x="133" y="20"/>
                    <a:pt x="96" y="28"/>
                    <a:pt x="64" y="16"/>
                  </a:cubicBezTo>
                  <a:cubicBezTo>
                    <a:pt x="58" y="13"/>
                    <a:pt x="69" y="5"/>
                    <a:pt x="72" y="0"/>
                  </a:cubicBezTo>
                  <a:close/>
                </a:path>
              </a:pathLst>
            </a:custGeom>
            <a:solidFill>
              <a:srgbClr val="bdd5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13560" y="3795840"/>
              <a:ext cx="379440" cy="98280"/>
            </a:xfrm>
            <a:custGeom>
              <a:avLst/>
              <a:gdLst/>
              <a:ahLst/>
              <a:rect l="l" t="t" r="r" b="b"/>
              <a:pathLst>
                <a:path w="239" h="62">
                  <a:moveTo>
                    <a:pt x="171" y="9"/>
                  </a:moveTo>
                  <a:cubicBezTo>
                    <a:pt x="117" y="10"/>
                    <a:pt x="62" y="0"/>
                    <a:pt x="11" y="13"/>
                  </a:cubicBezTo>
                  <a:cubicBezTo>
                    <a:pt x="0" y="15"/>
                    <a:pt x="12" y="35"/>
                    <a:pt x="19" y="45"/>
                  </a:cubicBezTo>
                  <a:cubicBezTo>
                    <a:pt x="27" y="58"/>
                    <a:pt x="50" y="51"/>
                    <a:pt x="67" y="53"/>
                  </a:cubicBezTo>
                  <a:cubicBezTo>
                    <a:pt x="112" y="56"/>
                    <a:pt x="157" y="58"/>
                    <a:pt x="203" y="61"/>
                  </a:cubicBezTo>
                  <a:cubicBezTo>
                    <a:pt x="212" y="59"/>
                    <a:pt x="223" y="62"/>
                    <a:pt x="231" y="57"/>
                  </a:cubicBezTo>
                  <a:cubicBezTo>
                    <a:pt x="237" y="51"/>
                    <a:pt x="239" y="33"/>
                    <a:pt x="239" y="33"/>
                  </a:cubicBezTo>
                  <a:cubicBezTo>
                    <a:pt x="231" y="28"/>
                    <a:pt x="221" y="26"/>
                    <a:pt x="215" y="21"/>
                  </a:cubicBezTo>
                  <a:cubicBezTo>
                    <a:pt x="192" y="2"/>
                    <a:pt x="208" y="2"/>
                    <a:pt x="171" y="9"/>
                  </a:cubicBezTo>
                  <a:close/>
                </a:path>
              </a:pathLst>
            </a:custGeom>
            <a:solidFill>
              <a:srgbClr val="b9c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7680" y="21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7560" y="1905120"/>
            <a:ext cx="4088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cial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h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Ori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al Geograp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Adaptive System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verty T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d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idity T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ical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ba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cis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981080"/>
            <a:ext cx="4419360" cy="49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ritual Father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Prime Minister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ast Viceroy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ramework for analyzing who gets what h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ramework for analyzing how decisions are made and implement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ramework for analyzing the history of  problem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our stage cycle of innovation, conservation, creative destruction and reorganiz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enough capit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enough connectiv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derstanding how location and proximity of different cultures and terrains impact  human affair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tonics, climate, soi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igion, governance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both cultural and physical  geography impact the birth of Ind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both cultural and physical geography impact the birth of Pakist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ultural and physical geography influence narcotics trafficking in Pakista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eographical thinking to analyze the problem (problem orientation) of illegal immigration in the U.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Evalu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lease describe what you liked and disliked about each class fac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dio Visual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r Location in the Unive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t Vicer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ff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work Assig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ggest Other Ways to Improve Student’s Geographical Thi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7:14:35Z</dcterms:created>
  <dc:creator>lucy/laffitte</dc:creator>
  <dc:description/>
  <dc:language>en-US</dc:language>
  <cp:lastModifiedBy>lucy/laffitte</cp:lastModifiedBy>
  <dcterms:modified xsi:type="dcterms:W3CDTF">2011-03-14T03:54:41Z</dcterms:modified>
  <cp:revision>6</cp:revision>
  <dc:subject/>
  <dc:title>PowerPoint Presentation</dc:title>
</cp:coreProperties>
</file>